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E66-9C5D-4FC8-AD6B-B382B587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BC6-2FA8-4067-B426-43529CA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CADEE-9106-426E-8439-E107D223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A8669-CF8D-420D-AC1D-E039291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BB9D6-B963-4C85-8B5D-4A2C6CFB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6B37A-ADB7-4863-A85E-0811F80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6D3E4-190F-4925-89CF-EA4B1C1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D1E02-A4A8-4ED4-A38F-69FBEC8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2847-37A3-408E-8344-D144E43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2FF85-9268-48D1-9E02-C768D6F3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FC0A5-B3C1-4D3F-BDBF-9DBBC084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24D26-E0FE-40BE-BA15-D1312A90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603-F071-4912-93D0-9A1AE4B0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D8B4D-40F3-44AD-B32D-8F425A9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DCF3C-D51F-4A26-861C-D39E93BA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4622C-C085-4ED0-BBCD-3256CD1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20D47-AD8F-4D5A-A176-2604577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24B0C-1ACB-4F12-9D13-E5D7F05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80391-10A7-4066-A05F-223A1B6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DA950-3641-4AFE-8E70-05B1070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3E02-D05E-428A-8669-7011411D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3FEA7-48D8-4C28-A09A-A721DC3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9DE0F-1E2E-4D5C-84BA-F1C2E7E8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FF1-88A4-4DBA-8201-D1FF7F40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AD69E-3BA2-4848-ABA0-594EFB7F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ABE4A-2509-48E1-9C55-8C7052D1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874E1-9F48-462C-89CD-014C87D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8812F-3EAA-4879-AB33-E6BCEB3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C3AF8-5077-41EB-934E-865B10A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0249-379A-4090-BEE0-8083043F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AA8A7-3F3B-4D27-8765-FC0D5F2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1A179-7537-472D-B392-9A5E084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F939-8947-48E6-B19A-5E089603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AAC28-BAC9-4B52-AB8C-D8A11ED1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99B6-4BCD-49AB-91E2-215FCB08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5DFF8-A0AB-49B8-BE79-91340E4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6DD5D-0732-4E08-BC4A-31342268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EE5AC-87B8-4D67-843A-7564A8AE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94703-2CAC-4522-86E9-AB57DD96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3FC30-23B0-4F05-AD0E-A054DFAA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A9898-7A04-49CE-8F39-76EDF3AE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37AD-A763-4CE3-8EB1-5A141AF8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B53C-33C8-4B38-9665-85845B8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3DCBF-785B-4FA9-B34A-EA153CB9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BAE7A-C42E-467A-8D96-7C2B749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E2FD-C79D-4A04-A925-DF27AF36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43C2-16D4-411E-9204-3262F28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EB2A-75A7-4D4B-9CA5-E67053B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28F11-4B5F-44AF-A3F8-F764B771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F03BB-5120-4ACF-BFF7-D85132C9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C8AA1-C3A4-4D61-B685-7415EF61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561A4-F6CF-4721-A879-CDEE4B40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D0AA7-E7D2-48DD-9B42-075FCD09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813ED-24A9-4A9D-9DE1-17412050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24AFE-42BA-4571-9551-CAB781DA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BCBD6-D1BE-408E-8074-CA8D172A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3C9B-70B1-413F-81AF-7C127E99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21733-7D26-4E3C-89A6-945D54C8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0545B-4BCA-4CFF-B674-6AFD36B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889CC-4C6D-4037-9E4C-3236C36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E4E4E-17A2-4A3F-A227-B13806C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3D025-F2C2-4108-A70A-38541F1C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257AA-4756-46B2-A106-64446BCD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E7DD6-1241-480C-9E66-40449B67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8446D-CE34-425E-80D0-4D0D4B33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CF31D-0659-4DAC-BCE8-0DFA4165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DBC07-DCFE-4585-9054-602C4D49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6D58-2C6D-4121-B2CD-9E76254F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CED1F-D1EF-43D9-817F-7414BFED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9D5EB-E330-44E3-B017-7D3780F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64414-CDA2-4570-9729-DE0EED1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D0D96-EFAF-483D-BEB4-66C50CD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88AA2-68B8-4083-B99B-950D3EF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B3F3A-86C9-437B-8B39-5F5275A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2A8C8-1897-4E85-8CA2-A36B137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AC673-E2DA-433A-AC1F-7368A30C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19B3A-5AE6-4B8F-B230-080DB8BD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55252-A6C6-43AA-9C38-36B8D102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6B9A-D156-4D27-8937-B0117096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2BD06-D85A-4214-92CB-B6FCB34E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588CB-C7FC-4371-BB96-F2770577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79CF5-77DE-4BE0-AC33-1822B0A1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0A4BC-8B7D-4451-85D2-AFC188EE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A7852-C670-4B12-B02D-A43320BC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0B231-20B6-40ED-8344-270314A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41CA8-E961-4C6C-8B73-DBD03C91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6FAB2-F492-488A-8CBE-B5091CC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201AC-73A4-4BF5-A65F-62B11A8E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DEB15-494D-4E36-94DB-D7929F11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1A97-3E59-4A52-8E02-65AC83FC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2ACAE-8FFE-481A-9872-4F0E1F8E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A0D6C-E3E7-445E-B54E-CF196D9A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85289-40CF-408A-892F-EF11249D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FE80C-F6A9-480A-9588-73A5FC4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2333E-A873-4C7F-84EA-605ED06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1C340-259F-4869-AD31-4AB506D0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47362-5918-4AAA-A68A-E621D0D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C6C65-F240-4F43-AFA5-515D39D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7B11D-4575-4F18-8115-1F900B7D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B2871-F3EA-4EDA-AB7C-43422D5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4ADE-CCED-4854-8225-70C16A7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5E322-8C98-40D6-98C1-576F42A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2B981-CA67-49C2-BC58-D70F76F8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7FD85-D692-453D-8DD8-90C1A566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E40DC-A596-4A30-A625-E91E9D39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10F8A-FCA5-4EEA-96FD-39A6D744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0BDF7-54F0-4551-8019-5B628D2D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AFE7C-8C50-4A40-A900-C32FA1CF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28B11-BCEE-48BF-A329-0AA69BC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51572-2ECD-4A9B-B6D3-75800AD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016237-81CB-4C37-B7EF-706E913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CDF-86F3-4F10-90AA-1A12106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95C6-A4C0-4FDC-A04B-B7DD0B3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2DE8B-0F4A-4B07-AC3F-5186003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CF06C-7984-4ABC-86AA-4FA8D6B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B3738-4459-4561-B76F-CDEABB23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DFD36-90E2-45CE-88DD-F45E77E4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CD6F6-80A1-439A-BBB2-674EA421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22D7E-B67C-4563-BC17-D4CA9CD1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DC85E-B127-4E3C-8E05-160E921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C45CD-8830-43D3-B902-2ACCFC8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02138-E5E6-4745-87E0-8C83D12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C7ACD-8B5E-4576-91AB-838DEFE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8E43-E898-46D2-AD23-E9640C7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4F834-00E5-445F-86D3-F106E92D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3F35B-23D0-4621-9DA4-021B127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DEEA6-272B-4CF2-B6F4-8BBBDE2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16540-8681-40D3-BA0F-5972ED0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B1EBA-D796-4626-BF38-1E39C90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19584-A814-411C-9CB9-05394B4F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58FF0-677C-4935-9956-93D37883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FA024-979B-4C9F-99D0-0A0B0A5D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D9950-7A6B-4EBF-8815-71DF6EDF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DDF75-0E76-49F7-B0FA-EB6FE985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128-8FF5-4734-841A-C5D74911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60580-CF31-49A6-A2A9-0C35EB9A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282C4-1AD7-420D-AEE6-9CB0FD7A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04870-0050-4ED6-AB4F-D60198DE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FF464-5F17-4910-851B-B5733B1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F9881-6FC5-48E3-825B-E733EBB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BDB46-1F1D-402B-B0F1-2B28EF8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603DC-D877-4E74-9E2F-B70C55F9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B49FD-C665-4652-A551-CB83FFCD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DED02-AE63-4B2B-A09A-37E58E9B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A9AB4D-F099-44A8-A795-1A2CF02F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60E6-E712-4F61-B066-37ED9417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08CBF-E16F-45F9-822D-D92E85EF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A7EC7-8007-4778-B0C8-C854E2F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9FF09-146D-49C0-B349-884F40D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D9590-5B8F-4062-A7E5-58D1EA4D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ED7D0-198B-4B1D-BA48-80B24A2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2BD31-8525-48E9-A1CE-9D7A694C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F30E7-5E6B-4D80-A6B1-4CB0D1F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BAC05-3EFE-444B-9BA4-E05A016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C70DE-D7DF-49A1-81F7-242B3AC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A4F7F-34E2-4DEA-B8EC-32ADDAC2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0758-0416-486B-A39D-A6DB2FF5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4DC6E-2297-400D-A699-77343EC3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433FA-7E0A-455A-AB61-C8B9A7CF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B4890C-EB8B-49BF-95AE-1E321AFF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B5304-B023-458A-9712-D3237E5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43151-AF31-4DB6-BC34-A323379C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10791-320E-43A5-BA69-DB04137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F7CA2-6478-4E9B-A64B-559C7B7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D7A8E2-1554-400B-972F-A7E88C1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7AFA27-01BC-4EC9-B17F-63BC82A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E73A0C-5961-4FB8-9EDB-038916E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87EB-A442-4ED5-A655-F3E8DB55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8CEF3-C1D4-4775-B8A0-1C1D9B1E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3D6E9-D9FE-4CEF-AB4A-11074794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C678C-0C01-4AB6-9247-78FE59F0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D22A-0738-4032-ADAB-28E626D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FE09-CD08-46EA-8A1A-653F8B7D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8F98-18DA-4164-B2BC-3C4DCC5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7E93-3736-469A-B641-C610ED6F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6BE-1260-4E21-9C61-C13B9950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9AA3-0A13-4607-A155-0E0AF55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B326-7773-45CA-8862-8034CC2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92D8-244E-4798-9E4F-7D20C1BB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B170-CC87-4E82-B2EC-9E8D796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CBAF-0800-4B18-BB7C-2356F90B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A0F7-B191-4C62-86AE-F6CF821B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D569-39FF-4056-8BB2-721BEFD7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A351-FB67-43B0-8265-532723C1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8597-A657-4C05-B71E-2C5744C2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BD74-008A-45C0-A00D-EBE65A2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166-21BA-47EC-A983-A7BDB469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054C-A168-4AFB-9B9A-6A6AE9C8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50EB-75DB-41FD-9771-90B138B8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8DEC-100A-447E-A166-129BB63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A3C2-D665-4BC3-9ACB-5CAAAF7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5BB3-9418-4ECA-B1BB-2CF1BF9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1BC6-EF01-42A8-BFA7-604BF38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3978-54AE-4B19-B32F-6A58006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C3D1-83CA-4440-8D6F-1DF068F3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978E-7D04-497F-BD5D-1189D884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7B56-2603-4C85-B162-A2FA8E3A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00B-83F1-4F72-95FA-7EA13F62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B398-B07C-4C05-8F8C-5FB3B2D8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9CA9A-8B3C-4A4F-9BED-5D4655E1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2AA2-EA0C-423C-9F5A-22469A9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4F22F-51F4-460C-B857-995C9975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2037-064E-40B4-9AD3-237C59DE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A46C-9734-439A-BBF4-C93FACB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275D-0463-4200-A24E-1FA01C3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C0A5-A486-4031-94DC-96925A1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B254-2067-43B1-80D8-9968BC7E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F230-AE83-4E02-A660-2B9B0456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979-8281-4E08-B04C-384838F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3BE7-90FD-4237-AAA0-0E6E0116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8A179-7C26-42B2-9A6F-E00796D6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469A-C830-411A-8C2B-EDC74D8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73202-0E6B-423D-8B86-A95B6BC0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82EC-D251-4A4D-8760-5828FAC0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DF3EA-5B42-44E1-9421-7D619297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E4BF-2D0C-4C47-BBA3-4F62B6DD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3F3D9-A04A-4547-8AA2-3C56403B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95E16-4913-4B9D-97F2-5D1929B1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325D-B55D-493C-9E1D-823EE72D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8BD-223F-40A4-A86E-A94DA53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812B-D671-46E1-A687-0CD64D09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153E-BBF0-4EE2-BE42-120AD60E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80F3-06CA-4711-9BDF-7A8B97E5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6DA7-8570-4524-90DD-ABF6E4A7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BAF3-EF35-4CB5-83DA-C7B376E3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F132-10E7-48A8-AB97-D2ACDF94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5718-7BD8-43ED-AAF0-54D2808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A78D-0559-4E6C-B531-8D543566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5594-6850-47E1-860A-0A6D4911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D763C-E961-473C-9E27-D24B4FD9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372-4BBA-4459-9A98-D8226F7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349C-0DB2-4B11-AA8C-CFEA36F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174C-C5C7-4107-8C59-571763C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17EE-F1EE-476D-B273-7AE1E6D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FA08-ECE9-40B0-919D-A0B154C7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32AD2-2885-4641-ACD4-7E1E6325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CAD2-5F7A-4DAD-9D76-FB9B0C5C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E338E-F64B-4486-A57A-93D13BB0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09AB-CE02-4BE0-9661-4996BCA3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B19C4-6014-4D9C-8253-B62DB9FE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1221-8191-463C-869E-9CA7E4EC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F26-5BA4-4F51-A350-AAD9E15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C9DD-E9C1-431F-BB03-6F8A2630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02B05-098F-4C7E-A8DC-21E1D7B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CD7E-A99B-4D58-A374-232E8A8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9369-81E4-497C-9117-C9382722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F65A9-1B6F-489F-B987-4010DEF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D30D0-5848-41B2-8AF6-99CB39AC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6AFD6-D793-4F12-BCB8-47FFE0A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A2922-CE88-4010-B14D-1448A006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75EFC-4E51-428E-95CB-BE5ED34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C6E61-8A3F-409C-9498-BFCCA16E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AFC9-7312-4909-94D8-97418EDC4E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88D7-AC67-46A1-A3C2-A3702AB26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50B9-B908-48F0-B5CE-24460648BE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045-1ADF-42F0-90AE-738F80A96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782-42EB-4BD9-91C7-27078C0ABA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3C5-5210-4F4A-8797-CA8F2A998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224B-D5EC-4022-83B4-2C7E99B4E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A775-FABF-4AE4-96A3-4A57C0364D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105E-FF29-4082-9937-E4FB03688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6B5A-921F-41BF-80C6-2C6E05247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2B95-BB82-4AA4-A9BC-130598E41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F69-8FCE-48E4-9C6E-E999A7D24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45B-2208-4FA5-90D9-0BDCF4565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A12F-DD26-40EA-8B21-B70AEBEA5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9608-B9E8-4F90-BC3E-981DB8C08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729-0B91-4F59-B4F1-C82EAF3C7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FA0-01DD-4F1E-A44B-1336475D2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7B06-F34F-4A73-A21C-3703FF933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309-F3B9-44AF-A475-6F999FF014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927-3553-4CAD-896A-55728C0F78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690E-AF9A-4AC5-A9B2-689399A12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5965-9FB9-406A-844C-4BA50A0DC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EEF3-B9C5-4E95-A334-EE5A0D9E9D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8CB-82E3-4AD7-B7DE-288F9511B7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3977-1AF8-49E8-812E-649FC18D6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19AE-F05B-40C3-A580-ECBB4C3B7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38F-7D7C-43DF-A3D2-D91D3E1A5A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BD1-B732-4323-AC8B-72C1C56D4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6699-9F7E-4521-A4B0-158AFB599E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24A-28CB-46E5-BED0-74A10BFA2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FB2-0107-47BA-A99B-9FF00C413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0A7-CCB1-4E65-9613-03E2A73C1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2120-7952-47B7-BCA1-13AD42375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E8A-998E-46B3-B8DF-AA03B4420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DDAA-D751-4A24-BCBB-3071CCFD49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552-9A31-4094-BD09-B4AD949CB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62C-A544-4801-9193-4361F32A2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BA9-E698-4CBD-8EF4-F47CDA9F4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8B5-7639-42F4-8081-4043CE9678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0BB-7D63-4139-8B1B-7672F11BF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57680" y="3224160"/>
            <a:ext cx="3429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885960"/>
            <a:ext cx="8839440" cy="5086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90840" y="2003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53160" y="1989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76364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643280" y="2406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596360" y="24066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18728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50072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58800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2692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57200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020000" y="36162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95280" y="4797360"/>
            <a:ext cx="2736720" cy="319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24000" y="5157720"/>
            <a:ext cx="27367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250920" y="5516640"/>
            <a:ext cx="4681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123840" y="2195640"/>
            <a:ext cx="8896320" cy="2466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388764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388764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24000" y="3803760"/>
            <a:ext cx="3887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266760" y="1300320"/>
            <a:ext cx="8610480" cy="4257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554508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554508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682560" y="5229360"/>
            <a:ext cx="554508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8388360" y="2378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834552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834552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837396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8345520" y="3875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837396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8373960" y="465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5"/>
          <a:stretch/>
        </p:blipFill>
        <p:spPr>
          <a:xfrm>
            <a:off x="8373960" y="50277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8:1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